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6D6-B816-47CA-8935-B22F3B06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545-6293-40BE-825E-2139CB6A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EB81-B3F3-46C1-98CB-76031761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B2B2-E368-4389-A982-78B4688C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579C-048B-4318-BC5D-A83253E2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8045-73B3-412E-B240-5C15A7E8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3159-D6C9-4E1D-BF69-5E3F367A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3166-5312-4C98-8A1B-B1DECF7A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6649-849D-4A4B-BCD2-F59996BB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E04C-63CB-4627-A8B8-BAE54847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A6ED-0CAC-4B3B-942B-D0A66277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E34C-25D4-4774-9747-FC08DC44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1BBC-C777-415D-AF75-7E56365A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47B9-9635-4A02-8943-DA70FC46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DCB6-0D19-43B9-8BB1-3C29EB05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A28B-2400-4E4D-901B-0FB5EAB5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FFB9-78E2-4AC7-A391-8725A7C4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0C1B-2023-4455-B804-3FFF3814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BB15-8DAC-4A27-9036-4A4D0915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5C8-DD47-43C5-9BEE-4AAC6A9D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E5CF-289E-4EEF-84BC-DB14D5CD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330C-98E9-4A12-BE3E-6BBB5686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C378-08D1-4B3B-90A1-8437F195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0161-2C06-4E8C-AD84-FD4BD0C9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85DF-BA63-452A-8F69-99851CD501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687B-AE1B-44A1-843F-E3146C4A80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eneric or Brand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people prefer Brand Soda to Generic Sod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Tastebuds."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nkque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Web. 15 Nov. 2010. &lt;http://library.thinkquest.org/3750/taste/taste.html&gt;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Tastebuds."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nline Encyclope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Web. 15 Nov. 2010. &lt;http://en.wikipedia.org/wiki/Taste_bud&gt;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Tastebuds."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ids Heal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Web. 15 Nov. 2010. &lt;http://kidshealth.org/kid/talk/qa/taste_buds.html&gt;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ill people prefer Brand Soda or will they prefer Generic Soda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is will prove how some peoples taste buds are different from other peoples buds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believe people will prefer brand soda compared to generic because I believe that the brand soda has more additives therefore it has more flavo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eri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be using the following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rus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untain D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will first take students and let them drink the sod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n they will tell me which they pref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will record the results in my Science Noteboo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638680" y="152280"/>
          <a:ext cx="3124080" cy="4657680"/>
        </p:xfrm>
        <a:graphic>
          <a:graphicData uri="http://schemas.openxmlformats.org/drawingml/2006/table">
            <a:tbl>
              <a:tblPr/>
              <a:tblGrid>
                <a:gridCol w="1562040"/>
                <a:gridCol w="1562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y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57200" y="152280"/>
          <a:ext cx="2895480" cy="465768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y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r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tin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ra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ch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e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s. Riff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n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yl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3581280" y="1905120"/>
            <a:ext cx="198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D= Citrus Dr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D= Mnt. D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of the boys prefer the generic soda Citrus Drop than the brand soda Mountain Dew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other hand most of the girls prefer the brand soda Mountain Dew over Citrus Drop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 (Cont.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onclusion my hypothesis was incorrect because most of the men preferred the Citrus Drop than Mnt. Dew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on the other hand most of the girls preferred the Mnt. Dew than Citrus Dro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Sa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of the boys said they liked the soda better because it had a better flavor and more carbonatio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test was ran without the testers knowing what soda was wha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5:11:43Z</dcterms:created>
  <dc:creator>USD376</dc:creator>
  <dc:description/>
  <dc:language>en-US</dc:language>
  <cp:lastModifiedBy>USD376</cp:lastModifiedBy>
  <dcterms:modified xsi:type="dcterms:W3CDTF">2011-01-26T14:59:02Z</dcterms:modified>
  <cp:revision>7</cp:revision>
  <dc:subject/>
  <dc:title>Generic or Brand?</dc:title>
</cp:coreProperties>
</file>